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C61-3EC9-48DB-83BA-4E77F417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610-3CA2-42AE-B187-8B3531AC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1E5-33A9-4F48-94AD-C0F88326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88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752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88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752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A52-91A2-4D39-8A51-597E65D9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D124-10BA-48E0-AA17-463C1F2D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DA8A-D342-4FFF-B3F2-33E7A388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87DE-7806-446A-98A0-81E89E65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D41F-9FDA-426F-9019-0E40CC3B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976B-44AF-4331-BB49-6F4429F0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48FB-0B1D-4446-B83E-4332A217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F05E-205B-42CC-B0B7-CD621E2D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691-00E7-4D6F-81FE-A5366C29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D60F-5D14-4DA8-8372-D252AF53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7DCD-775B-4EE6-BE58-43B676ED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EA22-CD03-4597-8C98-F76154A8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D299-5BC3-4642-A7DA-D90074A1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288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752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288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752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0F8A-5B0C-403B-B5ED-EFA5B6A3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B6F-CCA8-477A-8DCC-47A1BC03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C6C-905E-4F00-86A4-45F67C27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1BA1-00BA-4232-A1CA-DED3AFD0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459E-D2FE-412C-BA9F-4E7C8A74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479-C3E5-478B-8EDE-BE5EE662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CD05-097E-4440-AE14-76AC41DA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9D5E-14EB-4035-AF0F-A5990EC2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3917-CCC7-4EE4-BDF0-03F7BF5BDD5E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3DC7-5CF2-4957-9069-E1496C779AA3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Impact"/>
              </a:rPr>
              <a:t>Empires</a:t>
            </a: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38560" cy="4048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34040" y="0"/>
            <a:ext cx="300996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What is Empire?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politically unified state in which one people dominate its neighbo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 empire is a nation which has within its borders other formerly independent n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ually by military force, but it can be religion, diplomacy, and trad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Rise of Empires: Necessary Condition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strong military (probably created to fight a nearby rival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ong central government (not always an emperor but unified power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trol of several resourc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 other powerful empires nearby to crush the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Why Empire?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240" y="1294920"/>
            <a:ext cx="8915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deology – a belief system which encourages conquest (sons of Mar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eed – captured areas will yield riches to conquero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quest is the best defens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Peace within the empire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x = Peace perio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distance trade is safely conducte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sources (money &amp; energy) can be redirected towards building or social need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ultural Diffusion booms!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auses for Collapse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o big &amp; military is too expensiv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oor leadershi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conomic problem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tack: from outside or inside the empi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s of hegemony: unable to keep authority over conquere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Impact of Empire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ffuses cultu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ssimilates the conquere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ilds infrastructu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uenzi</dc:creator>
  <dc:description/>
  <dc:language>en-US</dc:language>
  <cp:lastModifiedBy>Will Hall</cp:lastModifiedBy>
  <dcterms:modified xsi:type="dcterms:W3CDTF">2009-09-23T16:32:37Z</dcterms:modified>
  <cp:revision>13</cp:revision>
  <dc:subject/>
  <dc:title>Empir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81033</vt:lpwstr>
  </property>
</Properties>
</file>